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43713" cy="9263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40C-E273-41B7-B45C-0D45C5A1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D4B-7618-4C3C-8123-90C24A6F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2AE-1552-4EB9-A480-846A89D1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0E8-F1D1-4A03-9DCB-37D084CF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2D6-BDE4-4064-A167-321B8F5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9AB-583C-49E5-8FFB-9E472990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3A5-A1AA-4FE7-A397-C385AFA7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A66-8D2F-401B-A7AF-45B849A5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837-B5E7-4C97-A598-F567BF44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2BA-C019-4436-A2E8-9F7EBECA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B77-CE15-40E3-A6D8-764EC10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D2E-9B74-43EB-BBA5-0D27F65C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82D2-036D-46A9-AB86-C8D9061A7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bthslmc.pbworks.com/BTHS+Excellence+By+Design" TargetMode="External"/><Relationship Id="rId4" Type="http://schemas.openxmlformats.org/officeDocument/2006/relationships/hyperlink" Target="http://bthslmc.pbworks.com/BTHS+Excellence+By+Design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ebdvisitation.wikispaces.com/" TargetMode="External"/><Relationship Id="rId4" Type="http://schemas.openxmlformats.org/officeDocument/2006/relationships/hyperlink" Target="http://ebdvisitation.wikispaces.com/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438280" y="5335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lington Township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828800"/>
            <a:ext cx="73152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idd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xcellence By Desig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Committee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62120" y="17524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2543040"/>
            <a:ext cx="6477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Priorities with Three to Five Measurable Objec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3886200"/>
            <a:ext cx="220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86080" y="4724280"/>
            <a:ext cx="6172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an Action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ing Implementation Te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95360" y="210492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year 2016, all students at Burlington Township High School will demonstrate increased academic proficiency in Mathematics as measu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of all students will achieve proficiency on the State exit examination in Mathema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1:  2009 NJASK 8 = 75.1% of the students in the Class of 2013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27.5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62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52.3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360" y="1676520"/>
            <a:ext cx="81532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2:  2009 S-Test 9 = 67% of the students in the Class of 2012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360" y="1676520"/>
            <a:ext cx="81532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3:  2009 S-Test 10 = 64.7% of the students in the Class of 2011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4:  2009 HSPA = 79.5% of the students in the Class of 2010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1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67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61.8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429000" y="5335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23960" y="1371600"/>
            <a:ext cx="7696080" cy="5029200"/>
            <a:chOff x="723960" y="1371600"/>
            <a:chExt cx="7696080" cy="5029200"/>
          </a:xfrm>
        </p:grpSpPr>
        <p:grpSp>
          <p:nvGrpSpPr>
            <p:cNvPr id="127" name=""/>
            <p:cNvGrpSpPr/>
            <p:nvPr/>
          </p:nvGrpSpPr>
          <p:grpSpPr>
            <a:xfrm>
              <a:off x="726480" y="1373760"/>
              <a:ext cx="7690320" cy="5024880"/>
              <a:chOff x="726480" y="1373760"/>
              <a:chExt cx="7690320" cy="50248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26480" y="1373760"/>
                <a:ext cx="7690320" cy="445320"/>
                <a:chOff x="726480" y="1373760"/>
                <a:chExt cx="7690320" cy="4453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26480" y="1373760"/>
                  <a:ext cx="7690320" cy="445320"/>
                </a:xfrm>
                <a:prstGeom prst="rect">
                  <a:avLst/>
                </a:pr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726480" y="1373760"/>
                  <a:ext cx="7690320" cy="445320"/>
                  <a:chOff x="726480" y="1373760"/>
                  <a:chExt cx="7690320" cy="44532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85160" y="1373760"/>
                    <a:ext cx="7572240" cy="445320"/>
                  </a:xfrm>
                  <a:prstGeom prst="rect">
                    <a:avLst/>
                  </a:pr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y 2016, 100% of all students will achieve proficiency on the State exit examination in mathemati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26480" y="1373760"/>
                    <a:ext cx="7690320" cy="44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726480" y="1819080"/>
                <a:ext cx="1922400" cy="572400"/>
                <a:chOff x="726480" y="1819080"/>
                <a:chExt cx="1922400" cy="57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2648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726480" y="1819080"/>
                  <a:ext cx="1922400" cy="572400"/>
                  <a:chOff x="726480" y="1819080"/>
                  <a:chExt cx="1922400" cy="5724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8516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easurement Instru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2648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" name=""/>
              <p:cNvGrpSpPr/>
              <p:nvPr/>
            </p:nvGrpSpPr>
            <p:grpSpPr>
              <a:xfrm>
                <a:off x="2648880" y="1819080"/>
                <a:ext cx="1922760" cy="572400"/>
                <a:chOff x="2648880" y="1819080"/>
                <a:chExt cx="1922760" cy="572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648880" y="1819080"/>
                  <a:ext cx="192276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2648880" y="1819080"/>
                  <a:ext cx="1922760" cy="572400"/>
                  <a:chOff x="2648880" y="1819080"/>
                  <a:chExt cx="1922760" cy="5724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270756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2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648880" y="1819080"/>
                    <a:ext cx="192276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4571640" y="1819080"/>
                <a:ext cx="1922400" cy="572400"/>
                <a:chOff x="4571640" y="1819080"/>
                <a:chExt cx="1922400" cy="572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57164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4571640" y="1819080"/>
                  <a:ext cx="1922400" cy="572400"/>
                  <a:chOff x="4571640" y="1819080"/>
                  <a:chExt cx="1922400" cy="5724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463032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4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7164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6494040" y="1819080"/>
                <a:ext cx="1922400" cy="572400"/>
                <a:chOff x="6494040" y="1819080"/>
                <a:chExt cx="1922400" cy="5724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49404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6494040" y="1819080"/>
                  <a:ext cx="1922400" cy="572400"/>
                  <a:chOff x="6494040" y="1819080"/>
                  <a:chExt cx="1922400" cy="57240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655272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6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49404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726480" y="2391480"/>
                <a:ext cx="1922400" cy="826920"/>
                <a:chOff x="726480" y="2391480"/>
                <a:chExt cx="1922400" cy="8269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8516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JASK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0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648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648880" y="2391480"/>
                <a:ext cx="1922760" cy="826920"/>
                <a:chOff x="2648880" y="2391480"/>
                <a:chExt cx="1922760" cy="826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70756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3.4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1.7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4.8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.2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48880" y="2391480"/>
                  <a:ext cx="192276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571640" y="2391480"/>
                <a:ext cx="1922400" cy="826920"/>
                <a:chOff x="4571640" y="2391480"/>
                <a:chExt cx="1922400" cy="8269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63032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1.7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.9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.4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4.1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57164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494040" y="2391480"/>
                <a:ext cx="1922400" cy="826920"/>
                <a:chOff x="6494040" y="2391480"/>
                <a:chExt cx="1922400" cy="8269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55272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49404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26480" y="3218400"/>
                <a:ext cx="1922400" cy="826560"/>
                <a:chOff x="726480" y="3218400"/>
                <a:chExt cx="1922400" cy="8265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8516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-Test 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32; Proficient by BTHS Standard = 3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2648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648880" y="3218400"/>
                <a:ext cx="1922760" cy="826560"/>
                <a:chOff x="2648880" y="3218400"/>
                <a:chExt cx="1922760" cy="8265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70756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648880" y="3218400"/>
                  <a:ext cx="192276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571640" y="3218400"/>
                <a:ext cx="1922400" cy="826560"/>
                <a:chOff x="4571640" y="3218400"/>
                <a:chExt cx="1922400" cy="826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63032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9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164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494040" y="3218400"/>
                <a:ext cx="1922400" cy="826560"/>
                <a:chOff x="6494040" y="3218400"/>
                <a:chExt cx="1922400" cy="826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55272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9404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26480" y="4044960"/>
                <a:ext cx="1922400" cy="826920"/>
                <a:chOff x="726480" y="4044960"/>
                <a:chExt cx="1922400" cy="8269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8516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-Test 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2; Proficient by BTHS Standard = 2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2648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648880" y="4044960"/>
                <a:ext cx="1922760" cy="826920"/>
                <a:chOff x="2648880" y="4044960"/>
                <a:chExt cx="1922760" cy="826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70756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6.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648880" y="4044960"/>
                  <a:ext cx="192276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571640" y="4044960"/>
                <a:ext cx="1922400" cy="826920"/>
                <a:chOff x="4571640" y="4044960"/>
                <a:chExt cx="1922400" cy="8269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63032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.3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7164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494040" y="4044960"/>
                <a:ext cx="1922400" cy="826920"/>
                <a:chOff x="6494040" y="4044960"/>
                <a:chExt cx="1922400" cy="8269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55272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49404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26480" y="4871880"/>
                <a:ext cx="1922400" cy="826560"/>
                <a:chOff x="726480" y="4871880"/>
                <a:chExt cx="1922400" cy="8265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78516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SP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0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2648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648880" y="4871880"/>
                <a:ext cx="1922760" cy="826560"/>
                <a:chOff x="2648880" y="4871880"/>
                <a:chExt cx="1922760" cy="8265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70756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6.3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1.1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.4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4.5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648880" y="4871880"/>
                  <a:ext cx="192276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571640" y="4871880"/>
                <a:ext cx="1922400" cy="826560"/>
                <a:chOff x="4571640" y="4871880"/>
                <a:chExt cx="1922400" cy="8265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63032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3.1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.5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9.1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.2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7164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494040" y="4871880"/>
                <a:ext cx="1922400" cy="826560"/>
                <a:chOff x="6494040" y="4871880"/>
                <a:chExt cx="1922400" cy="8265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55272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49404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726480" y="5698800"/>
                <a:ext cx="1922400" cy="699840"/>
                <a:chOff x="726480" y="5698800"/>
                <a:chExt cx="1922400" cy="699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8516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d-of-Course Assess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ginning with the Class of 2015?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2648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648880" y="5698800"/>
                <a:ext cx="1922760" cy="699840"/>
                <a:chOff x="2648880" y="5698800"/>
                <a:chExt cx="1922760" cy="6998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70756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648880" y="5698800"/>
                  <a:ext cx="192276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571640" y="5698800"/>
                <a:ext cx="1922400" cy="699840"/>
                <a:chOff x="4571640" y="5698800"/>
                <a:chExt cx="1922400" cy="6998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63032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57164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494040" y="5698800"/>
                <a:ext cx="1922400" cy="699840"/>
                <a:chOff x="6494040" y="5698800"/>
                <a:chExt cx="1922400" cy="6998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55272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9404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723960" y="1371600"/>
              <a:ext cx="7696080" cy="502920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95360" y="2104920"/>
            <a:ext cx="8153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year 2016, all students at Burlington Township High School will demonstrate increased academic proficiency in Language Arts Literacy as measu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of all students will achieve proficiency on the State exit examination in Language Arts Lite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1:  2009 NJASK 8 = 91.5% of the student in the Class of 2013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2.3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7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3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360" y="1676520"/>
            <a:ext cx="81532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2:  2009 S-Test 9 = 83.3% of the student in the Class of 2012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447920"/>
            <a:ext cx="73152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ment of Internal Coordin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ment of Planning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cation with Faculty, Staff, and Community v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EBD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ulty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1676520"/>
            <a:ext cx="81532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3:  2009 S-Test 10 = 85% of the student in the Class of 2011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4:  2009 HSPA = 92.4% of the students in the Class of 2010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36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9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0.6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429000" y="5335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23960" y="1371600"/>
            <a:ext cx="7696080" cy="5029200"/>
            <a:chOff x="723960" y="1371600"/>
            <a:chExt cx="7696080" cy="5029200"/>
          </a:xfrm>
        </p:grpSpPr>
        <p:grpSp>
          <p:nvGrpSpPr>
            <p:cNvPr id="248" name=""/>
            <p:cNvGrpSpPr/>
            <p:nvPr/>
          </p:nvGrpSpPr>
          <p:grpSpPr>
            <a:xfrm>
              <a:off x="726480" y="1373760"/>
              <a:ext cx="7690320" cy="5024880"/>
              <a:chOff x="726480" y="1373760"/>
              <a:chExt cx="7690320" cy="50248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26480" y="1373760"/>
                <a:ext cx="7690320" cy="445320"/>
                <a:chOff x="726480" y="1373760"/>
                <a:chExt cx="7690320" cy="4453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26480" y="1373760"/>
                  <a:ext cx="7690320" cy="445320"/>
                </a:xfrm>
                <a:prstGeom prst="rect">
                  <a:avLst/>
                </a:pr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726480" y="1373760"/>
                  <a:ext cx="7690320" cy="445320"/>
                  <a:chOff x="726480" y="1373760"/>
                  <a:chExt cx="7690320" cy="4453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785160" y="1373760"/>
                    <a:ext cx="7572240" cy="445320"/>
                  </a:xfrm>
                  <a:prstGeom prst="rect">
                    <a:avLst/>
                  </a:pr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y 2016, 100% of all students will achieve proficiency on the State exit examination in Language Arts Literac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26480" y="1373760"/>
                    <a:ext cx="7690320" cy="44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726480" y="1819080"/>
                <a:ext cx="1922400" cy="572400"/>
                <a:chOff x="726480" y="1819080"/>
                <a:chExt cx="1922400" cy="572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648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726480" y="1819080"/>
                  <a:ext cx="1922400" cy="572400"/>
                  <a:chOff x="726480" y="1819080"/>
                  <a:chExt cx="1922400" cy="5724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78516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easurement Instru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2648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2648880" y="1819080"/>
                <a:ext cx="1922760" cy="572400"/>
                <a:chOff x="2648880" y="1819080"/>
                <a:chExt cx="1922760" cy="5724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648880" y="1819080"/>
                  <a:ext cx="192276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2648880" y="1819080"/>
                  <a:ext cx="1922760" cy="572400"/>
                  <a:chOff x="2648880" y="1819080"/>
                  <a:chExt cx="1922760" cy="5724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270756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2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648880" y="1819080"/>
                    <a:ext cx="192276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4571640" y="1819080"/>
                <a:ext cx="1922400" cy="572400"/>
                <a:chOff x="4571640" y="1819080"/>
                <a:chExt cx="1922400" cy="5724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57164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571640" y="1819080"/>
                  <a:ext cx="1922400" cy="572400"/>
                  <a:chOff x="4571640" y="1819080"/>
                  <a:chExt cx="1922400" cy="5724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463032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4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57164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" name=""/>
              <p:cNvGrpSpPr/>
              <p:nvPr/>
            </p:nvGrpSpPr>
            <p:grpSpPr>
              <a:xfrm>
                <a:off x="6494040" y="1819080"/>
                <a:ext cx="1922400" cy="572400"/>
                <a:chOff x="6494040" y="1819080"/>
                <a:chExt cx="1922400" cy="5724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494040" y="1819080"/>
                  <a:ext cx="1922400" cy="5724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6494040" y="1819080"/>
                  <a:ext cx="1922400" cy="572400"/>
                  <a:chOff x="6494040" y="1819080"/>
                  <a:chExt cx="1922400" cy="5724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6552720" y="1819080"/>
                    <a:ext cx="1804680" cy="5724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 Year Bench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June 2016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494040" y="1819080"/>
                    <a:ext cx="1922400" cy="5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726480" y="2391480"/>
                <a:ext cx="1922400" cy="826920"/>
                <a:chOff x="726480" y="2391480"/>
                <a:chExt cx="1922400" cy="826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78516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JASK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0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2648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2648880" y="2391480"/>
                <a:ext cx="1922760" cy="826920"/>
                <a:chOff x="2648880" y="2391480"/>
                <a:chExt cx="1922760" cy="8269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70756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4.3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1.5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.1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.1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648880" y="2391480"/>
                  <a:ext cx="192276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571640" y="2391480"/>
                <a:ext cx="1922400" cy="826920"/>
                <a:chOff x="4571640" y="2391480"/>
                <a:chExt cx="1922400" cy="8269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63032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7.1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.7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.5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1.1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57164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6494040" y="2391480"/>
                <a:ext cx="1922400" cy="826920"/>
                <a:chOff x="6494040" y="2391480"/>
                <a:chExt cx="1922400" cy="8269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6552720" y="239148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494040" y="239148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26480" y="3218400"/>
                <a:ext cx="1922400" cy="826560"/>
                <a:chOff x="726480" y="3218400"/>
                <a:chExt cx="1922400" cy="826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8516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-Test 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32; Proficient by BTHS Standard = 3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2648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648880" y="3218400"/>
                <a:ext cx="1922760" cy="826560"/>
                <a:chOff x="2648880" y="3218400"/>
                <a:chExt cx="1922760" cy="8265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70756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.9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48880" y="3218400"/>
                  <a:ext cx="192276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4571640" y="3218400"/>
                <a:ext cx="1922400" cy="826560"/>
                <a:chOff x="4571640" y="3218400"/>
                <a:chExt cx="1922400" cy="8265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63032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4.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7164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6494040" y="3218400"/>
                <a:ext cx="1922400" cy="826560"/>
                <a:chOff x="6494040" y="3218400"/>
                <a:chExt cx="1922400" cy="8265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552720" y="321840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494040" y="321840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726480" y="4044960"/>
                <a:ext cx="1922400" cy="826920"/>
                <a:chOff x="726480" y="4044960"/>
                <a:chExt cx="1922400" cy="8269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78516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-Test 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8; Proficient by BTHS Standard = 3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2648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648880" y="4044960"/>
                <a:ext cx="1922760" cy="826920"/>
                <a:chOff x="2648880" y="4044960"/>
                <a:chExt cx="1922760" cy="8269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70756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48880" y="4044960"/>
                  <a:ext cx="192276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571640" y="4044960"/>
                <a:ext cx="1922400" cy="826920"/>
                <a:chOff x="4571640" y="4044960"/>
                <a:chExt cx="1922400" cy="8269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63032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57164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494040" y="4044960"/>
                <a:ext cx="1922400" cy="826920"/>
                <a:chOff x="6494040" y="4044960"/>
                <a:chExt cx="1922400" cy="8269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552720" y="4044960"/>
                  <a:ext cx="180468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494040" y="4044960"/>
                  <a:ext cx="1922400" cy="82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726480" y="4871880"/>
                <a:ext cx="1922400" cy="826560"/>
                <a:chOff x="726480" y="4871880"/>
                <a:chExt cx="1922400" cy="8265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78516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SP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roficient by Test Standard = 20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2648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2648880" y="4871880"/>
                <a:ext cx="1922760" cy="826560"/>
                <a:chOff x="2648880" y="4871880"/>
                <a:chExt cx="1922760" cy="8265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70756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7.4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6.5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.4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48880" y="4871880"/>
                  <a:ext cx="192276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571640" y="4871880"/>
                <a:ext cx="1922400" cy="826560"/>
                <a:chOff x="4571640" y="4871880"/>
                <a:chExt cx="1922400" cy="8265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63032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7.5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.7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3.3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.2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7164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494040" y="4871880"/>
                <a:ext cx="1922400" cy="826560"/>
                <a:chOff x="6494040" y="4871880"/>
                <a:chExt cx="1922400" cy="8265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552720" y="4871880"/>
                  <a:ext cx="1804680" cy="82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Total Popul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S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African Amer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% (ED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494040" y="4871880"/>
                  <a:ext cx="1922400" cy="826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26480" y="5698800"/>
                <a:ext cx="1922400" cy="699840"/>
                <a:chOff x="726480" y="5698800"/>
                <a:chExt cx="1922400" cy="6998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8516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2648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2648880" y="5698800"/>
                <a:ext cx="1922760" cy="699840"/>
                <a:chOff x="2648880" y="5698800"/>
                <a:chExt cx="1922760" cy="6998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70756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648880" y="5698800"/>
                  <a:ext cx="192276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571640" y="5698800"/>
                <a:ext cx="1922400" cy="699840"/>
                <a:chOff x="4571640" y="5698800"/>
                <a:chExt cx="1922400" cy="6998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63032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57164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494040" y="5698800"/>
                <a:ext cx="1922400" cy="699840"/>
                <a:chOff x="6494040" y="5698800"/>
                <a:chExt cx="1922400" cy="699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552720" y="5698800"/>
                  <a:ext cx="180468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94040" y="5698800"/>
                  <a:ext cx="1922400" cy="69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>
              <a:off x="723960" y="1371600"/>
              <a:ext cx="7696080" cy="502920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495360" y="28353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velop and implement a technology plan for the 2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hat best prepares our students for their post-secondary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62120" y="259092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533520"/>
            <a:ext cx="5105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To Be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42900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ing the Accredita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Accreditation Team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838080" y="25146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342900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reditation 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533520"/>
            <a:ext cx="4419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to be Completed by the Middle States Accreditatio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762120" y="28195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9760" y="3886200"/>
            <a:ext cx="6324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lementation of the Action Plan for Growth and Improv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533520"/>
            <a:ext cx="4496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to be Completed by the EBD Planning Committee and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942840" y="2057400"/>
            <a:ext cx="7258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States Accred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come Reception D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19 at 6:0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THS Cafeteria Sun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286000"/>
            <a:ext cx="723888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Mission Statem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Statement of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on of Profile of the Gradu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ablishing Twelve Subcommitt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838080" y="2209680"/>
            <a:ext cx="73915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324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urlington Township School District will develop the intellectual, creative, and social potential of each child through an active partnership with all members of the commu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5720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38080" y="2286000"/>
            <a:ext cx="73915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ment of Beli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BELIEV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ll students learn based on their individual style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the school community establishes a safe, secure, and positive cl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mutual respect and appreciation of diversity enriches a comm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57200"/>
            <a:ext cx="510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743200" y="457200"/>
            <a:ext cx="5105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lann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676520"/>
            <a:ext cx="7696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file of the Grad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THS graduat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ow respect toward self and others in a personal and profession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critically in order to adapt and apply knowledge to new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an effective communic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knowledge of emerging techn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e productively and ethically as a member of our democratic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762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Fa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39152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Support / Non-support of Mission Stat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Agreement / Disagreement with Statement of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dication of Agreement / Disagreement with Profile of the Gradu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Internal Sc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ulty External Sc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895480" y="6094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Sub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1905120"/>
            <a:ext cx="5867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of Artifacts and Evid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Intern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External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Paren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tuden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ative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38080" y="2057400"/>
            <a:ext cx="198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895480"/>
            <a:ext cx="655344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the Profile of the School and Its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of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of Studen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of Organization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31:10Z</dcterms:created>
  <dc:creator>Nina Franco</dc:creator>
  <dc:description/>
  <dc:language>en-US</dc:language>
  <cp:lastModifiedBy>nfranco</cp:lastModifiedBy>
  <dcterms:modified xsi:type="dcterms:W3CDTF">2009-10-01T21:30:13Z</dcterms:modified>
  <cp:revision>71</cp:revision>
  <dc:subject/>
  <dc:title>Accelerated Reader + Instructional Council Members= Reading Success For All!</dc:title>
</cp:coreProperties>
</file>